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0EE2-1CAD-44A2-8676-00893A4F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321-4E24-4E82-8504-3499049D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990-4A7F-45E4-8584-D30BD318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588-A2F0-472F-B7DF-CB2D878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C84-4CFE-4A81-8BB8-FC95A086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08B-C378-445E-8E4B-1F0462B0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878-11AC-4318-AC60-A7FAA308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BB4-26F0-44E2-B723-1A767B1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ED2-99AC-4631-922C-8D9BCB51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B01-F565-44F7-A33D-8FFA612C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288-9FE3-418B-819A-2B15D2B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268-309C-4D33-B7FA-9751ECA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BE0-E75E-424E-92B8-4458AAC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0F9-0D56-4AA4-8CDF-4D727715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B9EB-A0A6-469F-977E-23E89E8C4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nica Tenec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npreet Virk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npreet Virk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uenos dias a todas mis amigas ¿Quien quiere irse al parque q jugar voliebo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152280" y="3581280"/>
            <a:ext cx="16002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. Me llamo Monica y tengo 14 años. Tengo dos hermanos y una hermana y vivemos en astoria, Queens. Yo soy Alegre, simpatica, linda  inteligente. Me gusta diviterme much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l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t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4479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s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ibe algo…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Kath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Monica. Y yo quiero ir a jugar volieb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3" descr="Photo on 2011-11-29 at 13.54.jpg"/>
          <p:cNvPicPr/>
          <p:nvPr/>
        </p:nvPicPr>
        <p:blipFill>
          <a:blip r:embed="rId7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9"/>
          <p:cNvSpPr/>
          <p:nvPr/>
        </p:nvSpPr>
        <p:spPr>
          <a:xfrm>
            <a:off x="152280" y="685800"/>
            <a:ext cx="155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4"/>
          <p:cNvSpPr/>
          <p:nvPr/>
        </p:nvSpPr>
        <p:spPr>
          <a:xfrm>
            <a:off x="228600" y="1066680"/>
            <a:ext cx="132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6" descr="20204_393328290743197_1698626473_n.jpg"/>
          <p:cNvPicPr/>
          <p:nvPr/>
        </p:nvPicPr>
        <p:blipFill>
          <a:blip r:embed="rId8"/>
          <a:stretch/>
        </p:blipFill>
        <p:spPr>
          <a:xfrm>
            <a:off x="152280" y="914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533520" cy="458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2280" y="5715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82890_472189296142141_2129182302_n.jpg"/>
          <p:cNvPicPr/>
          <p:nvPr/>
        </p:nvPicPr>
        <p:blipFill>
          <a:blip r:embed="rId10"/>
          <a:srcRect l="7445" t="42084" r="45039" b="0"/>
          <a:stretch/>
        </p:blipFill>
        <p:spPr>
          <a:xfrm>
            <a:off x="838080" y="5257800"/>
            <a:ext cx="563760" cy="51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67874_531360506891686_597812273_n.jpg"/>
          <p:cNvPicPr/>
          <p:nvPr/>
        </p:nvPicPr>
        <p:blipFill>
          <a:blip r:embed="rId11"/>
          <a:srcRect l="75669" t="-1140" r="0" b="62387"/>
          <a:stretch/>
        </p:blipFill>
        <p:spPr>
          <a:xfrm>
            <a:off x="1447920" y="5240160"/>
            <a:ext cx="457200" cy="56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582018_472182296142841_1457810963_n.jpg"/>
          <p:cNvPicPr/>
          <p:nvPr/>
        </p:nvPicPr>
        <p:blipFill>
          <a:blip r:embed="rId12"/>
          <a:srcRect l="6207" t="-954" r="39793" b="18459"/>
          <a:stretch/>
        </p:blipFill>
        <p:spPr>
          <a:xfrm>
            <a:off x="228600" y="5943600"/>
            <a:ext cx="368280" cy="42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582018_472182296142841_1457810963_n.jpg"/>
          <p:cNvPicPr/>
          <p:nvPr/>
        </p:nvPicPr>
        <p:blipFill>
          <a:blip r:embed="rId13"/>
          <a:srcRect l="6207" t="-954" r="39793" b="18459"/>
          <a:stretch/>
        </p:blipFill>
        <p:spPr>
          <a:xfrm>
            <a:off x="2133720" y="2514600"/>
            <a:ext cx="39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00:37Z</dcterms:created>
  <dc:creator>FriscoISD</dc:creator>
  <dc:description/>
  <dc:language>en-US</dc:language>
  <cp:lastModifiedBy>User</cp:lastModifiedBy>
  <dcterms:modified xsi:type="dcterms:W3CDTF">2012-12-06T14:02:56Z</dcterms:modified>
  <cp:revision>104</cp:revision>
  <dc:subject/>
  <dc:title>Profile</dc:title>
</cp:coreProperties>
</file>